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E502D-7070-4728-BEA2-4D6C2FC2F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ACD7B-C602-4052-852B-52645913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E91C4-CF70-474D-8529-13A5FA528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65685-04E4-41BF-A098-DA0020AB1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094C4-A7EB-4517-9746-B8E54FAC8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0FFF-0D60-42E6-B548-2EBDB53C4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3E755-B96B-4E15-AA25-4A64F512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10D3D-FB49-4808-947D-5B0F5617B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5A3B0-D59C-4555-BF57-A22B66E2E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DB14E-3E7E-4045-8AB9-E14745713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17690-643C-45A2-9798-E31D60ED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B9DEA-133B-4D7D-B939-4B5B207F6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0ABD-AAE7-479A-9711-9F1549DD89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627280" y="4653000"/>
            <a:ext cx="39337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siunea iunie - iuli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63d18"/>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2</cp:lastModifiedBy>
  <dcterms:modified xsi:type="dcterms:W3CDTF">2012-06-18T11:06:15Z</dcterms:modified>
  <cp:revision>39</cp:revision>
  <dc:subject/>
  <dc:title>SALARIUL</dc:title>
</cp:coreProperties>
</file>